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9CBE-F6E9-4453-A14C-9C45F4F7F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2D6F-117E-41C7-AB0A-DEBD64587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7FC7-C321-4193-9589-02115F5C3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5542-0BA0-4F5E-B285-93EF47C3C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0E07-C445-46C2-A852-85A60BA18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4667-3D28-4D05-8628-DF6ECBADE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7437-22BF-4A1B-8D62-618778D37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A6E3-759C-49C4-BAC7-A78FC9689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04A5-0C9C-4114-B09D-7E4969F2B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CE9D-30E3-4E45-BB79-D3141AA5D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4301-DC55-4DD2-849F-49044B67A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3B53-0B08-405C-BBE4-3FBC00C7D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81AC7-A1CE-47FA-B0E8-E0E50BB572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6643800" cy="15238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04920" y="2057400"/>
            <a:ext cx="4103640" cy="8380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04920" y="2971800"/>
            <a:ext cx="8534160" cy="25257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76720" y="2057400"/>
            <a:ext cx="12189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6272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8472600" cy="838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04920" y="1371600"/>
            <a:ext cx="822960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30592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63882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8:34:14Z</dcterms:created>
  <dc:creator>Graham</dc:creator>
  <dc:description/>
  <dc:language>en-US</dc:language>
  <cp:lastModifiedBy>Graham</cp:lastModifiedBy>
  <dcterms:modified xsi:type="dcterms:W3CDTF">2012-09-30T18:34:18Z</dcterms:modified>
  <cp:revision>1</cp:revision>
  <dc:subject/>
  <dc:title>Slide 1</dc:title>
</cp:coreProperties>
</file>